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0FD37-3F0C-44FC-BDBB-96357D0B1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9A38-D3D4-4AF8-A812-8A8DE79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77E7-AA47-4833-B436-51C13139E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DE6D5-4944-436A-9102-4F0D7689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9DFA-3D82-4CBF-B59C-5A51E9DA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5BB0-1E7F-48DA-A1BA-B86B0605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EB88-0678-48F1-8355-A5861CDE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1973-CEE5-4903-918A-791C8886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7A47F-E49E-4CCA-A50B-84D4C317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5D3E-5748-4F8B-A1DF-54B686D6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9B9A-F51E-4653-BD73-40B1C322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ED70-0E59-4290-9495-1F8170AB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9902-4F10-4D6E-AF04-57E87F56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4525-4240-4D85-AEDA-60D59B75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1F7D-89B9-4B57-B975-D20D5DD8D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2B72-9D55-4590-A0A7-EA0D9F05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84EF-A966-4A54-BB9C-F74EB981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80D4-8B41-4A11-98F7-A57210FB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85795-7C8C-4326-BA01-9E3D9AC1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6301-6E54-458C-B1BA-A4AF7CEC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BACD1-BCDC-4C50-800E-CA437158B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7CE92-D487-46C0-A390-813CED2D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B14C6-A100-4A20-B1F1-DD2E0FA3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6AEEE-E482-4ADF-BD2E-AB3363F2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14E6-0E73-40EC-BAB8-45AAD938B8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32C-F38E-43C0-8451-93A00C4D20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brication d’u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istor 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757240" y="2916000"/>
            <a:ext cx="1608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é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9360" y="6805440"/>
            <a:ext cx="5759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 : Métal / Oxyde / Semi-conduc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circulation de courant entre la source et le drain se fait grâce aux électrons attirés par la grille en surface du sili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49360" y="3851280"/>
            <a:ext cx="5716440" cy="25876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rcRect l="0" t="8364" r="0" b="2788"/>
          <a:stretch/>
        </p:blipFill>
        <p:spPr>
          <a:xfrm>
            <a:off x="692280" y="684360"/>
            <a:ext cx="5402160" cy="217800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5022" r="0" b="1674"/>
          <a:stretch/>
        </p:blipFill>
        <p:spPr>
          <a:xfrm>
            <a:off x="549360" y="4140360"/>
            <a:ext cx="5710320" cy="328284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11" name=""/>
          <p:cNvSpPr/>
          <p:nvPr/>
        </p:nvSpPr>
        <p:spPr>
          <a:xfrm>
            <a:off x="692280" y="2916360"/>
            <a:ext cx="547344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d’une couche d’ox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uvrement de résine photo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2280" y="7956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2280" y="7524720"/>
            <a:ext cx="540072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onnement du mas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veloppement de la ré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2793" r="0" b="2095"/>
          <a:stretch/>
        </p:blipFill>
        <p:spPr>
          <a:xfrm>
            <a:off x="620640" y="755640"/>
            <a:ext cx="5394240" cy="29494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sp>
        <p:nvSpPr>
          <p:cNvPr id="115" name=""/>
          <p:cNvSpPr/>
          <p:nvPr/>
        </p:nvSpPr>
        <p:spPr>
          <a:xfrm>
            <a:off x="765000" y="3780000"/>
            <a:ext cx="5473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ure de l’ox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ression de la résine re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2280" y="7956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2280" y="7812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antation d’un élément chimique afin de doper le silicium en élect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4791" r="0" b="2395"/>
          <a:stretch/>
        </p:blipFill>
        <p:spPr>
          <a:xfrm>
            <a:off x="476280" y="5219640"/>
            <a:ext cx="5711760" cy="24544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5000" y="3708360"/>
            <a:ext cx="5473800" cy="9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d’une couche d’oxy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uvrement de résine photo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280" y="7956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2280" y="76690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ux applications successives de la photolithographie avec les masques représen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2274" r="0" b="1516"/>
          <a:stretch/>
        </p:blipFill>
        <p:spPr>
          <a:xfrm>
            <a:off x="692280" y="900000"/>
            <a:ext cx="5394240" cy="27352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2362" r="0" b="2362"/>
          <a:stretch/>
        </p:blipFill>
        <p:spPr>
          <a:xfrm>
            <a:off x="692280" y="4924440"/>
            <a:ext cx="5383080" cy="265428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5000" y="3780000"/>
            <a:ext cx="5473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pôt de métal sur la plaqu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but d’une dernière photolitho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2280" y="7956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5000" y="810108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èvement du transistor 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4622" r="0" b="2311"/>
          <a:stretch/>
        </p:blipFill>
        <p:spPr>
          <a:xfrm>
            <a:off x="692280" y="971640"/>
            <a:ext cx="5394240" cy="265104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4295" r="0" b="2863"/>
          <a:stretch/>
        </p:blipFill>
        <p:spPr>
          <a:xfrm>
            <a:off x="476280" y="5148360"/>
            <a:ext cx="5710320" cy="2746440"/>
          </a:xfrm>
          <a:prstGeom prst="rect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0:13:48Z</dcterms:created>
  <dc:creator>Rigollé Yoann</dc:creator>
  <dc:description/>
  <dc:language>en-US</dc:language>
  <cp:lastModifiedBy>François LEIBER</cp:lastModifiedBy>
  <dcterms:modified xsi:type="dcterms:W3CDTF">2001-11-25T20:39:52Z</dcterms:modified>
  <cp:revision>14</cp:revision>
  <dc:subject/>
  <dc:title>Fabrication de composants Technologie MOS</dc:title>
</cp:coreProperties>
</file>