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8B1D-BE68-4A47-93E9-D503B507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CB0F-A9EC-4A87-BE6A-AD676AAB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9AC-727E-43B1-ACCE-D7681C79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0E1-CF78-484E-A1C2-2610ABEE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817-B92E-43B1-8C8B-8FBC609D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A11F-163A-4A72-A864-7F59B4E8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127B-5E35-42E9-89EB-61159E08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06D7-414C-47D2-AE92-3BF441F5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C76-44E3-4C1D-A322-A89B29DA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9DFB-F070-4F92-80B9-46D5A760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ABA-C9EB-49C6-BA62-A9F75026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F6B-E4BC-4B76-B31E-0EB5F75E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00DC-EB0F-4098-816D-701539B07D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6400" y="620640"/>
            <a:ext cx="470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Fabrication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de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compos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187720"/>
            <a:ext cx="80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a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fabr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 matéri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) Les procé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) Les différentes é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4) L’assemb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I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e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II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’aven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877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45720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RESI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que boîtier est marqué par sa référence(gravure par laser,ou par pression au tamp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limination des superflus métalliq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épôt d’une couche d’étain (protége et facilite la soudure ultérieure du boîtier sur la car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est et livraison au client.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581280" y="838080"/>
            <a:ext cx="4953240" cy="2333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76360" y="5486400"/>
            <a:ext cx="338040" cy="528480"/>
          </a:xfrm>
          <a:custGeom>
            <a:avLst/>
            <a:gdLst>
              <a:gd name="textAreaLeft" fmla="*/ 45000 w 338040"/>
              <a:gd name="textAreaRight" fmla="*/ 293040 w 338040"/>
              <a:gd name="textAreaTop" fmla="*/ 92520 h 528480"/>
              <a:gd name="textAreaBottom" fmla="*/ 383400 h 52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6400" y="620640"/>
            <a:ext cx="4708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Fabrication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de</a:t>
            </a:r>
            <a:r>
              <a:rPr b="0" lang="en-US" sz="4800" spc="-1" strike="noStrike">
                <a:solidFill>
                  <a:srgbClr val="00cc99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c99"/>
                </a:solidFill>
                <a:latin typeface="Comic Sans MS"/>
              </a:rPr>
              <a:t>compos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18772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I) La</a:t>
            </a:r>
            <a:r>
              <a:rPr b="0" lang="en-US" sz="3200" spc="-1" strike="noStrike">
                <a:solidFill>
                  <a:srgbClr val="9900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9900ff"/>
                </a:solidFill>
                <a:latin typeface="Comic Sans MS"/>
              </a:rPr>
              <a:t>fabr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Le matéri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2) Les procéd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3) Les différentes éta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4) L’assembl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I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es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II)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L’aven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TERIA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étallu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ng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s plaquet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 mar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-2289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imes New Roman"/>
              </a:rPr>
              <a:t>METALLURGIE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1ér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ETAP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réduction du sable            (pureté 98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3 èm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ETAP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purification           (moins de 1 ppm d’impure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16640" indent="-1166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Times New Roman"/>
              </a:rPr>
              <a:t>TIRAGE DU LING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Obtention du silicium monocristalin à partir du silicium polycristali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Découpage du lingot en tranches de moins d’une mm d’épaisseur(Wafer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-968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3333cc"/>
                </a:solidFill>
                <a:latin typeface="Times New Roman"/>
              </a:rPr>
              <a:t>polyssage Mécano chimique et fin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52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00240"/>
            <a:ext cx="3090960" cy="1085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2362320"/>
            <a:ext cx="16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2é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ETA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2819520"/>
            <a:ext cx="5268960" cy="1074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34040" y="868320"/>
            <a:ext cx="542880" cy="198360"/>
          </a:xfrm>
          <a:prstGeom prst="rightArrow">
            <a:avLst>
              <a:gd name="adj1" fmla="val 50000"/>
              <a:gd name="adj2" fmla="val 68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63800" y="4191120"/>
            <a:ext cx="579600" cy="233280"/>
          </a:xfrm>
          <a:prstGeom prst="rightArrow">
            <a:avLst>
              <a:gd name="adj1" fmla="val 50000"/>
              <a:gd name="adj2" fmla="val 621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66680" y="4724280"/>
            <a:ext cx="50180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E MAR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emarch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98976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ASSEMBL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S BOIT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U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touacha1" descr=""/>
          <p:cNvPicPr/>
          <p:nvPr/>
        </p:nvPicPr>
        <p:blipFill>
          <a:blip r:embed="rId1"/>
          <a:stretch/>
        </p:blipFill>
        <p:spPr>
          <a:xfrm>
            <a:off x="7589880" y="0"/>
            <a:ext cx="155412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ES BOITI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542160" indent="-20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l remplit quatre fonctions de b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nction électrique: assure l’alimentation de la puce (puissance,signaux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n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écanique:supporte la puce et permet sa 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nction de pro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-1666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onction thermique:évacue la chaleur vers l’ex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omination des boîtier      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           plastiques sur le marché(plus  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e flexibilité, économiques...)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3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4760" y="4648320"/>
            <a:ext cx="4162320" cy="1409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14960" y="5181480"/>
            <a:ext cx="866520" cy="341280"/>
          </a:xfrm>
          <a:custGeom>
            <a:avLst/>
            <a:gdLst>
              <a:gd name="textAreaLeft" fmla="*/ 135360 w 866520"/>
              <a:gd name="textAreaRight" fmla="*/ 758520 w 866520"/>
              <a:gd name="textAreaTop" fmla="*/ 85320 h 341280"/>
              <a:gd name="textAreaBottom" fmla="*/ 255960 h 34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838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mise en boîtier commence par une préparation de la pu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r la plaquet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ier et séparer les p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r chaque puce sur sa gr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e grille constitue le squelette sur lequel le boîtier va se form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ière:Cuivre ou alliage fer-Nick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isseur:125 à250 micr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sité de connexions:jusqu’à 300 connexion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at de surface:Dépôt d’argent sur les zone de soudure des fils d’or + coplanarité des connex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62640" y="3395520"/>
            <a:ext cx="18720" cy="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1258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soud" descr=""/>
          <p:cNvPicPr/>
          <p:nvPr/>
        </p:nvPicPr>
        <p:blipFill>
          <a:blip r:embed="rId1"/>
          <a:stretch/>
        </p:blipFill>
        <p:spPr>
          <a:xfrm>
            <a:off x="5943600" y="762120"/>
            <a:ext cx="3019320" cy="2209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80880" y="1219320"/>
            <a:ext cx="7988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Après fixation  sur la grille, on comm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ar  souder les plots d’aluminium  d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uce aux doigts métalliques de la gri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plot d’alumin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                       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doigt métal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Encapsulation: les puces et leur fils vont être enrobés dans une résine qui protége l’ensemble et isole le circuit(en ne laissant apparaître que les connexion extérieur du boîtier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562360" y="2514600"/>
            <a:ext cx="1143000" cy="1371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7772400" y="2514600"/>
            <a:ext cx="380880" cy="1600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5:30:06Z</dcterms:created>
  <dc:creator>D140</dc:creator>
  <dc:description/>
  <dc:language>en-US</dc:language>
  <cp:lastModifiedBy>fifi.</cp:lastModifiedBy>
  <dcterms:modified xsi:type="dcterms:W3CDTF">2001-11-25T23:48:31Z</dcterms:modified>
  <cp:revision>9</cp:revision>
  <dc:subject/>
  <dc:title>MATERIAU</dc:title>
</cp:coreProperties>
</file>