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6E8A-C536-42D4-ACC2-F85AF63C9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A2E-8058-4B6C-8E11-93C390F2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D47-39D7-465B-9BA5-4BF2352E6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D7A7-BD60-43B2-B8BB-72AAD93E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DF70-91BE-4DDF-9FD4-CA091DCE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152C-A077-4BBB-81A4-425780648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BC2E-9AD2-46BE-933F-9654D73A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63CD-61D4-401B-988D-164AD556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00E5-8B2E-4467-BC2B-BA789664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47D2-5ACB-455D-B45D-987E13FC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8AF7-5543-4218-A92F-35270862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C6D-DAE2-490D-9287-201A6A7C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7D9A-79DB-4765-994E-79B1023A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646E-7D7F-4EB3-B344-5BE7EF35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6A83-BC1E-4E33-8E63-E38701CA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82D2-43D3-4DED-AD5F-C5A4C41E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69F3-E874-46C1-9B51-5F8206FB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2816-92BB-4CF3-8F05-6C9266E8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6477-716A-495F-9EE9-A8D90D5A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C50-D465-48DD-A21D-F1DF477C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6C1B-DF0B-46D6-9767-AAD0CB4B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19FB-AE97-4436-8303-7819CB63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6BE-1CDD-4018-A8A1-7CA4F74C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A97-31A4-4717-82C0-E75CD2B6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059A-41EC-4B20-8EA6-7D91EEE32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4484-7A04-4315-83CA-3B747E032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urlascience.com/numeros/pls-283/ordinateur/encadre1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976400" y="620640"/>
            <a:ext cx="470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cc"/>
                </a:solidFill>
                <a:latin typeface="Comic Sans MS"/>
              </a:rPr>
              <a:t>Fabrication</a:t>
            </a:r>
            <a:r>
              <a:rPr b="0" lang="en-US" sz="4800" spc="-1" strike="noStrike">
                <a:solidFill>
                  <a:srgbClr val="00cccc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cccc"/>
                </a:solidFill>
                <a:latin typeface="Comic Sans MS"/>
              </a:rPr>
              <a:t>de</a:t>
            </a:r>
            <a:r>
              <a:rPr b="0" lang="en-US" sz="4800" spc="-1" strike="noStrike">
                <a:solidFill>
                  <a:srgbClr val="00cccc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cc"/>
                </a:solidFill>
                <a:latin typeface="Comic Sans MS"/>
              </a:rPr>
              <a:t>composant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218772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33cc"/>
              </a:buClr>
              <a:buFont typeface="Comic Sans M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La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fabr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33cc"/>
              </a:buClr>
              <a:buFont typeface="Comic Sans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Le matéria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2) Les procé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3) Les différentes éta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4) L’assembl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II)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Les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cc"/>
                </a:solidFill>
                <a:latin typeface="Comic Sans MS"/>
              </a:rPr>
              <a:t>te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III)</a:t>
            </a: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L’aven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392040" y="2360520"/>
            <a:ext cx="9144000" cy="36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362320"/>
            <a:ext cx="2057400" cy="2046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0880" y="106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819520" y="304776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 boulier n’est plus simple à manipuler!!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5050"/>
                </a:solidFill>
                <a:latin typeface="Times New Roman"/>
              </a:rPr>
              <a:t>Technologies dans le futu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Loi de Mo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Perspectives dans l’aven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19810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le stipule que le nombre de transistors sur une puce se double tout les dix-huit mo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oi de Moore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ché et physique en acco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80880" y="1752480"/>
          <a:ext cx="83059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52480"/>
                    <a:ext cx="83059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des technologies et course à la miniaturis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 trois dernières décennies ont coïncidé avec cette lo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technologie a soutenu le rythme de ré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is elle s’est heurtée a des problèmes div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2743200" y="1523880"/>
          <a:ext cx="3046320" cy="19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523880"/>
                    <a:ext cx="3046320" cy="19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7010280" y="2971800"/>
            <a:ext cx="15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4114800"/>
            <a:ext cx="72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rupteur moléculaire fabriqué avec un atome de xén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s molécules substituerons au siliciu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666880" y="2819520"/>
          <a:ext cx="355284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819520"/>
                    <a:ext cx="355284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57200" y="1752480"/>
          <a:ext cx="518148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752480"/>
                    <a:ext cx="51814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24852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2362320"/>
            <a:ext cx="0" cy="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409720" y="2286000"/>
            <a:ext cx="1752840" cy="9144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105160" y="3200400"/>
            <a:ext cx="2057400" cy="1523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2819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 métalli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3120" y="1219320"/>
            <a:ext cx="25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éseau molécula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Conclus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loi de Moore s’approche de sa fin et on parle maintenant des ordinateurs moléculaires ,à ADN et quantiques,pourtant elle a rendu grand service et c’est grâce a elle qu’on voit des téléphones, des PC portables et tout une technologie caractérisant la fin du millénaire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3809880" cy="3063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47056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86240" y="213372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l y plus de transistors que de fourm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4320" y="3505320"/>
            <a:ext cx="470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t si on compte celles qui 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 walkmans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21:07:03Z</dcterms:created>
  <dc:creator>D135</dc:creator>
  <dc:description/>
  <dc:language>en-US</dc:language>
  <cp:lastModifiedBy>fifi.</cp:lastModifiedBy>
  <dcterms:modified xsi:type="dcterms:W3CDTF">2001-11-25T23:48:44Z</dcterms:modified>
  <cp:revision>8</cp:revision>
  <dc:subject/>
  <dc:title>Technologies dans le futur</dc:title>
</cp:coreProperties>
</file>