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7.jpeg" ContentType="image/jpeg"/>
  <Override PartName="/ppt/media/image28.jpeg" ContentType="image/jpeg"/>
  <Override PartName="/ppt/media/image18.png" ContentType="image/png"/>
  <Override PartName="/ppt/media/image34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3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E52EB-BAE4-47E4-8614-1D285DFF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9F0C7-8D20-4632-8A16-D3E32B9C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1F35-8A6F-461C-829C-E9B1DE70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8528-6D5E-4E0C-8798-5BEBF447F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C3D38-1243-49B9-B81E-1BFFC3EBE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B77C-3A5F-40C1-8093-E631BCBF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38DE-FA19-4F30-B080-A46B91A4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D5FD-DF71-41BB-999F-BD79E41E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6F5B-54F9-47B6-AF15-5F93BE52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24CB-5F29-4AE5-80C3-A34B4E61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7A76-5B48-4FE9-951D-52B98924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9A466-768B-404C-9B48-683C5B8F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8286-1198-4B3C-8F6F-49E022D0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2391-4FA9-44F3-B8C0-DB4F86FD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6C24E-3875-4F12-9A17-2CD3E5E4D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6A29-69BA-4E90-A0FA-A3CB93F0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42964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16560" y="264132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34272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42964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4516560" y="5347800"/>
            <a:ext cx="1987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3432-F808-4690-9777-64FDF70A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C23D6-9C73-49F4-B9CA-F72664D9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E9F9-E50A-4109-A9D4-64B9E5D7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12A8B-0426-416F-85FA-6242BC42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609480"/>
            <a:ext cx="61722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82CF-5E3E-430C-898B-396C7C0C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6A58B-A93C-4486-BD55-C9FFD42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34780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AAF46-595C-4EB8-A42D-11F5DE789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641320"/>
            <a:ext cx="30117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347800"/>
            <a:ext cx="61722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20E71-476A-43C8-B88E-EB30C5C3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764A-5DA1-4E4F-9F84-1CA55AFB5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6857640" cy="728280"/>
            <a:chOff x="0" y="0"/>
            <a:chExt cx="6857640" cy="72828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14200" cy="711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9600" y="180000"/>
              <a:ext cx="6548040" cy="366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07080" y="180000"/>
              <a:ext cx="103320" cy="18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10400" y="0"/>
              <a:ext cx="10476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10400" y="180000"/>
              <a:ext cx="104760" cy="18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05920" y="366120"/>
              <a:ext cx="102240" cy="1843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8640" y="181800"/>
              <a:ext cx="105840" cy="1843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7080" y="361800"/>
              <a:ext cx="103320" cy="1843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5920" y="546480"/>
              <a:ext cx="102240" cy="1818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342720" y="6094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42720" y="2641320"/>
            <a:ext cx="6172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6857640" cy="9143640"/>
            <a:chOff x="0" y="0"/>
            <a:chExt cx="6857640" cy="914364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2628720" cy="9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87000" y="2253960"/>
              <a:ext cx="5570640" cy="33778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422000"/>
              <a:ext cx="2149920" cy="4209480"/>
              <a:chOff x="0" y="1422000"/>
              <a:chExt cx="2149920" cy="4209480"/>
            </a:xfrm>
          </p:grpSpPr>
          <p:sp>
            <p:nvSpPr>
              <p:cNvPr id="55" name=""/>
              <p:cNvSpPr/>
              <p:nvPr/>
            </p:nvSpPr>
            <p:spPr>
              <a:xfrm>
                <a:off x="429840" y="4776840"/>
                <a:ext cx="432000" cy="8546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87000" y="2253600"/>
                <a:ext cx="430920" cy="8571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0720" y="1422000"/>
                <a:ext cx="439200" cy="846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56080" y="4776840"/>
                <a:ext cx="437760" cy="8546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0720" y="2253600"/>
                <a:ext cx="439200" cy="857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56080" y="3098160"/>
                <a:ext cx="437760" cy="8442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98160"/>
                <a:ext cx="436680" cy="8442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287000" y="3098160"/>
                <a:ext cx="430920" cy="8442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9840" y="3930120"/>
                <a:ext cx="432000" cy="858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6080" y="3930120"/>
                <a:ext cx="437760" cy="858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848F6-3D23-413D-B655-A9BC75BC8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228760" y="2437920"/>
            <a:ext cx="4515120" cy="29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8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09520" y="1187280"/>
            <a:ext cx="394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99ff"/>
                </a:solidFill>
                <a:latin typeface="Comic Sans MS"/>
              </a:rPr>
              <a:t>Les procédé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13000" y="2843280"/>
            <a:ext cx="43923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1) Oxy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2) Dépô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3) Lithogra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4) Grav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5) Do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6) Nettoy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cc"/>
                </a:solidFill>
                <a:latin typeface="Comic Sans MS"/>
              </a:rPr>
              <a:t>7) Salle blan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40" y="6112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Techniques de photolith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4880" y="421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" y="378000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hotorépé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924280" y="2627280"/>
            <a:ext cx="295884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8640" y="2523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Sources op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9920" y="161892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rincipal facteur limi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iminution des règles de dess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-&gt;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nécessité de longueurs d’ondes                         de plus en plus cou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04640" y="3276720"/>
            <a:ext cx="606744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61" name=""/>
          <p:cNvGrpSpPr/>
          <p:nvPr/>
        </p:nvGrpSpPr>
        <p:grpSpPr>
          <a:xfrm>
            <a:off x="1120680" y="5580000"/>
            <a:ext cx="4671720" cy="2643120"/>
            <a:chOff x="1120680" y="5580000"/>
            <a:chExt cx="4671720" cy="2643120"/>
          </a:xfrm>
        </p:grpSpPr>
        <p:sp>
          <p:nvSpPr>
            <p:cNvPr id="162" name=""/>
            <p:cNvSpPr/>
            <p:nvPr/>
          </p:nvSpPr>
          <p:spPr>
            <a:xfrm>
              <a:off x="1251720" y="5580000"/>
              <a:ext cx="413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66699"/>
                  </a:solidFill>
                  <a:latin typeface="Comic Sans MS"/>
                </a:rPr>
                <a:t>Techniques alternativ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20680" y="6299640"/>
              <a:ext cx="4671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7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7d"/>
                  </a:solidFill>
                  <a:latin typeface="Arial"/>
                </a:rPr>
                <a:t>Lithographie par faisceau d’électrons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7d"/>
                  </a:solidFill>
                  <a:latin typeface="Arial"/>
                </a:rPr>
                <a:t>écriture direc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7d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7d"/>
                  </a:solidFill>
                  <a:latin typeface="Arial"/>
                </a:rPr>
                <a:t>Lithographie par faisceau d’ions :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7d"/>
                  </a:solidFill>
                  <a:latin typeface="Arial"/>
                </a:rPr>
                <a:t>Insolation par projection d’ions H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836640" y="75564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omic Sans MS"/>
              </a:rPr>
              <a:t>La gravure hum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0640" y="1908000"/>
            <a:ext cx="2732040" cy="1081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20640" y="3564000"/>
            <a:ext cx="2741760" cy="1135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620640" y="5364000"/>
            <a:ext cx="2732040" cy="1197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620640" y="7236000"/>
            <a:ext cx="2741760" cy="10825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933720" y="169236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ine de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33720" y="2195640"/>
            <a:ext cx="1943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076640" y="234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de de sili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05360" y="2987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quette de sili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491920" y="2627280"/>
            <a:ext cx="1513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637000" y="2268360"/>
            <a:ext cx="151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924280" y="1835280"/>
            <a:ext cx="1009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05360" y="3635280"/>
            <a:ext cx="2376360" cy="642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laquette est plongée dans un b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05360" y="5292720"/>
            <a:ext cx="2376360" cy="916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action chimique avec le matériau à gra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05360" y="7236000"/>
            <a:ext cx="2376360" cy="10598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gravure est isot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rgravu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25360" y="826920"/>
            <a:ext cx="47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omic Sans MS"/>
              </a:rPr>
              <a:t>La gravure sè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836640" y="4356000"/>
          <a:ext cx="2087640" cy="20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4356000"/>
                    <a:ext cx="2087640" cy="20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836640" y="6804000"/>
          <a:ext cx="2089080" cy="20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6640" y="6804000"/>
                    <a:ext cx="208908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3860640" y="2050920"/>
            <a:ext cx="299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sma contenant des espèces chimiques a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500280" y="4932360"/>
            <a:ext cx="2737080" cy="11912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ions sont dirigés vers la surface de la plaquette par un champ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33720" y="39225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rat de sili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33720" y="33465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de de silic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60640" y="26989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ésine de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836640" y="1979640"/>
            <a:ext cx="2087640" cy="2016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2349000" y="2843280"/>
            <a:ext cx="151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988640" y="2195640"/>
            <a:ext cx="18003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2276640" y="3346560"/>
            <a:ext cx="172872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2205000" y="3706920"/>
            <a:ext cx="17287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8280" y="7020000"/>
            <a:ext cx="309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73360" y="7596360"/>
            <a:ext cx="2735280" cy="642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rption des espèces réa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692280" y="2484360"/>
          <a:ext cx="219060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2484360"/>
                    <a:ext cx="219060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-695160" y="8264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0640" y="826920"/>
            <a:ext cx="58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omic Sans MS"/>
              </a:rPr>
              <a:t>La gravure sèche (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92280" y="5724360"/>
          <a:ext cx="2247840" cy="222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724360"/>
                    <a:ext cx="2247840" cy="22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3573360" y="2484360"/>
            <a:ext cx="2880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73360" y="6732720"/>
            <a:ext cx="2808360" cy="3682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ravure est anisot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00280" y="3276720"/>
            <a:ext cx="2880000" cy="916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atomes de la couche superficielle sont évacués par pom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36640" y="539640"/>
            <a:ext cx="54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omic Sans MS"/>
              </a:rPr>
              <a:t>Comparaison gravures sèche et hum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33360" y="3635280"/>
          <a:ext cx="6261120" cy="4926240"/>
        </p:xfrm>
        <a:graphic>
          <a:graphicData uri="http://schemas.openxmlformats.org/drawingml/2006/table">
            <a:tbl>
              <a:tblPr/>
              <a:tblGrid>
                <a:gridCol w="1835280"/>
                <a:gridCol w="2212920"/>
                <a:gridCol w="2212920"/>
              </a:tblGrid>
              <a:tr h="13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Gravure hum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Gravure sèch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67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Avan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aible coû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ébit élev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nisotr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pplicable aux faibles géomé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aible             conta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Inconvéni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sotr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anger chi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pplicable uniquement aux larges géomé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nta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oût élev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ébit fa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7d"/>
                      </a:solidFill>
                    </a:lnL>
                    <a:lnR w="5760">
                      <a:solidFill>
                        <a:srgbClr val="00007d"/>
                      </a:solidFill>
                    </a:lnR>
                    <a:lnT w="5760">
                      <a:solidFill>
                        <a:srgbClr val="00007d"/>
                      </a:solidFill>
                    </a:lnT>
                    <a:lnB w="5760">
                      <a:solidFill>
                        <a:srgbClr val="00007d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508640" y="2268360"/>
          <a:ext cx="18666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2268360"/>
                    <a:ext cx="186660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2492280" y="2050920"/>
          <a:ext cx="1212840" cy="12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92280" y="2050920"/>
                    <a:ext cx="1212840" cy="12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1722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Comic Sans MS"/>
              </a:rPr>
              <a:t>Les Do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7520" y="1692360"/>
            <a:ext cx="16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4640" y="2411280"/>
            <a:ext cx="2324160" cy="1105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rcRect l="10355" t="0" r="10355" b="0"/>
          <a:stretch/>
        </p:blipFill>
        <p:spPr>
          <a:xfrm>
            <a:off x="476280" y="3851280"/>
            <a:ext cx="2233440" cy="24066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20640" y="6588000"/>
            <a:ext cx="1955880" cy="889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620640" y="7812000"/>
            <a:ext cx="1994040" cy="9399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984480" y="2719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38120" y="2556000"/>
            <a:ext cx="304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laquette de silic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+ oxyde de silicium gra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41720" y="4140360"/>
            <a:ext cx="31366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ré dépô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éaction entre POCl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t 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formation d’une cou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d’oxyde dopé avec P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7d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igration des atome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phosphore vers le silic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29320" y="680400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limination de l’oxyde dop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29320" y="7812000"/>
            <a:ext cx="3818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ecui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Dopants redistribués en profond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t placés en site substitutio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59560" y="922320"/>
            <a:ext cx="36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Implantation</a:t>
            </a:r>
            <a:r>
              <a:rPr b="0" lang="en-US" sz="24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io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65000" y="7164360"/>
            <a:ext cx="2311560" cy="1193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92280" y="1979640"/>
            <a:ext cx="2323800" cy="11048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354120" y="2124000"/>
            <a:ext cx="304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laquette de silic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+ oxyde de silicium gra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858480" y="4500720"/>
            <a:ext cx="220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ntroduction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dopants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idirectionn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92280" y="3708360"/>
            <a:ext cx="2735280" cy="26654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572280" y="7093080"/>
            <a:ext cx="269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ecui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tomes de dop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activés et plac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n site substitutio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12840" y="1830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44840" y="14050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00800" y="1332000"/>
            <a:ext cx="24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Compara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692280" y="2843280"/>
          <a:ext cx="5327280" cy="4294080"/>
        </p:xfrm>
        <a:graphic>
          <a:graphicData uri="http://schemas.openxmlformats.org/drawingml/2006/table">
            <a:tbl>
              <a:tblPr/>
              <a:tblGrid>
                <a:gridCol w="1775160"/>
                <a:gridCol w="1777320"/>
                <a:gridCol w="1774800"/>
              </a:tblGrid>
              <a:tr h="90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Technique de dop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9999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Diffu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Implantation ioniq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Contrôle de la quantité de dop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Comic Sans MS"/>
                        </a:rPr>
                        <a:t>Mauv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Comic Sans MS"/>
                        </a:rPr>
                        <a:t>Très 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Contrôle de la profond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Comic Sans MS"/>
                        </a:rPr>
                        <a:t>Moy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Comic Sans MS"/>
                        </a:rPr>
                        <a:t>Très b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Contrôle des géomé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Comic Sans MS"/>
                        </a:rPr>
                        <a:t>Isotr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Comic Sans MS"/>
                        </a:rPr>
                        <a:t>unidirection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7d"/>
                          </a:solidFill>
                          <a:latin typeface="Comic Sans MS"/>
                        </a:rPr>
                        <a:t>Tempé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Comic Sans MS"/>
                        </a:rPr>
                        <a:t>Environ  100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666699"/>
                          </a:solidFill>
                          <a:latin typeface="Comic Sans MS"/>
                        </a:rPr>
                        <a:t>600 – 900°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6666ff"/>
                      </a:solidFill>
                    </a:lnL>
                    <a:lnR w="5760">
                      <a:solidFill>
                        <a:srgbClr val="6666ff"/>
                      </a:solidFill>
                    </a:lnR>
                    <a:lnT w="5760">
                      <a:solidFill>
                        <a:srgbClr val="6666ff"/>
                      </a:solidFill>
                    </a:lnT>
                    <a:lnB w="5760">
                      <a:solidFill>
                        <a:srgbClr val="6666ff"/>
                      </a:solidFill>
                    </a:lnB>
                    <a:solidFill>
                      <a:srgbClr val="cccc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92280" y="75564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omic Sans MS"/>
              </a:rPr>
              <a:t>Nettoy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9360" y="2268360"/>
            <a:ext cx="5904000" cy="185076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ur élim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- Les résidus orga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- Les particules métall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- Les particules issues des procéd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0280" y="5508720"/>
            <a:ext cx="6381720" cy="132624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- Evacuation par des nettoyages chi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- Rinçage à l’eau désionis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d"/>
                </a:solidFill>
                <a:latin typeface="Arial"/>
              </a:rPr>
              <a:t>- Séchage par centrifu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13000" y="53964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6280" y="755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666699"/>
                </a:solidFill>
                <a:latin typeface="Comic Sans MS"/>
              </a:rPr>
              <a:t>Oxy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00280" y="2411280"/>
            <a:ext cx="3517920" cy="1765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76280" y="5292720"/>
            <a:ext cx="604836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Arial"/>
              </a:rPr>
              <a:t>2 types d’oxydation</a:t>
            </a: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Oxydation humide    </a:t>
            </a:r>
            <a:r>
              <a:rPr b="1" lang="en-US" sz="2800" spc="-1" strike="noStrike">
                <a:solidFill>
                  <a:srgbClr val="9999cc"/>
                </a:solidFill>
                <a:latin typeface="Arial"/>
              </a:rPr>
              <a:t>   rap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Oxydation sèche         </a:t>
            </a:r>
            <a:r>
              <a:rPr b="1" lang="en-US" sz="2800" spc="-1" strike="noStrike">
                <a:solidFill>
                  <a:srgbClr val="9999cc"/>
                </a:solidFill>
                <a:latin typeface="Arial"/>
              </a:rPr>
              <a:t>meilleure                                          </a:t>
            </a:r>
            <a:r>
              <a:rPr b="1" lang="en-US" sz="2800" spc="-1" strike="noStrike">
                <a:solidFill>
                  <a:srgbClr val="99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99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9999cc"/>
                </a:solidFill>
                <a:latin typeface="Arial"/>
              </a:rPr>
              <a:t>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rcRect l="12378" t="5053" r="33838" b="9600"/>
          <a:stretch/>
        </p:blipFill>
        <p:spPr>
          <a:xfrm>
            <a:off x="1413000" y="2268360"/>
            <a:ext cx="3757320" cy="48420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438200" y="900000"/>
            <a:ext cx="362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Comic Sans MS"/>
              </a:rPr>
              <a:t>Salle blan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41360" y="1763640"/>
            <a:ext cx="4127400" cy="30704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557360" y="5435640"/>
            <a:ext cx="3556080" cy="26924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47960" y="1042920"/>
            <a:ext cx="479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Environnement et alimentation contrôl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07920" y="82692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Comic Sans MS"/>
              </a:rPr>
              <a:t>Les dépô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4640" y="205092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Dépôts en phase vap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73360" y="2773440"/>
            <a:ext cx="2665440" cy="2662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20640" y="594216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Epitax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20640" y="6732720"/>
            <a:ext cx="4032360" cy="1993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08640" y="7669080"/>
            <a:ext cx="2016000" cy="916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che de Si dopé N sur substrat dopé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04640" y="118728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Pulvér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22440" y="2125800"/>
          <a:ext cx="2246040" cy="18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125800"/>
                    <a:ext cx="2246040" cy="18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620640" y="4500720"/>
          <a:ext cx="2303640" cy="1828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500720"/>
                    <a:ext cx="23036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0640" y="6732720"/>
          <a:ext cx="2376720" cy="183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6732720"/>
                    <a:ext cx="237672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3429000" y="2557440"/>
            <a:ext cx="2952720" cy="91692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élération des ions du plasma vers la cible d’Alumin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5078520"/>
            <a:ext cx="2952720" cy="642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tomes d’Aluminium sont arrach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7308720"/>
            <a:ext cx="2952720" cy="6426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s atomes viennent se déposer sur la plaqu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9360" y="1116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Arial"/>
              </a:rPr>
              <a:t>Polissage mécano-chim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49360" y="2268360"/>
            <a:ext cx="5800680" cy="18957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0640" y="5435640"/>
            <a:ext cx="5819760" cy="1724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133720" y="4500720"/>
            <a:ext cx="230508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nt poli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5000" y="7524720"/>
            <a:ext cx="2303640" cy="39888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ès poli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Comic Sans MS"/>
              </a:rPr>
              <a:t>La Lithograph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4640" y="1835280"/>
            <a:ext cx="1818000" cy="1154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65000" y="5294160"/>
            <a:ext cx="1619280" cy="21592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716280" y="5651640"/>
            <a:ext cx="1657440" cy="938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129200" y="26272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49360" y="1909800"/>
            <a:ext cx="429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laquette + Résine photosen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+ Masque des mo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17960" y="4788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8640" y="7740720"/>
            <a:ext cx="127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Ins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66480" y="6948360"/>
            <a:ext cx="331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Résine insolée développé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puis élimi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81000" y="3132000"/>
            <a:ext cx="4260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Masques (échelle 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et réticules (avec facteur de réduction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Plaques en verre ou quartz.</a:t>
            </a: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Résines : polymères combinés avec un    composé sensible à la lumière.</a:t>
            </a:r>
            <a:br>
              <a:rPr sz="1800"/>
            </a:b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  Positives ou nég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8640" y="6112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Techniques de photolith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04880" y="421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52280" y="579600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r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781360" y="2700360"/>
            <a:ext cx="2933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8640" y="6112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Techniques de photolith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7920" y="5364000"/>
            <a:ext cx="18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r proxim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4880" y="421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781360" y="2700360"/>
            <a:ext cx="28828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8640" y="611280"/>
            <a:ext cx="6172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Comic Sans MS"/>
              </a:rPr>
              <a:t>Techniques de photolithograph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04880" y="4211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07920" y="4211640"/>
            <a:ext cx="18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r pro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81360" y="2627280"/>
            <a:ext cx="303516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13:21:09Z</dcterms:created>
  <dc:creator>Mélanie Arnac</dc:creator>
  <dc:description/>
  <dc:language>en-US</dc:language>
  <cp:lastModifiedBy>Mélanie Arnac</cp:lastModifiedBy>
  <dcterms:modified xsi:type="dcterms:W3CDTF">2001-11-25T22:16:30Z</dcterms:modified>
  <cp:revision>41</cp:revision>
  <dc:subject/>
  <dc:title>Slide 1</dc:title>
</cp:coreProperties>
</file>