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B838D-9AC8-4CF6-A88F-ACE01387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658E-D862-446B-9CC1-9FE53158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DD0D7-A684-4833-80E3-2BF3A63A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6690C-0DF4-47ED-B5F9-DC5C1AECB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0281-E3AD-49DE-A2EE-9A042C1EA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5002-5D72-4954-9247-5C5CC226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539A-27E4-4747-AA5B-BD1B78C1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EC7C-9795-47E5-AC0B-D5AA083A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FEBF-51E8-4917-A724-E573ED06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5F05-D57C-47CA-B167-73ABA2CA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D0830-0B97-4AE0-91A5-90247D2E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514C7-C57F-41D3-914E-2850AB614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D0E9-C025-44D2-AD88-C120A5E1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5986-A970-4D07-A5DB-E199A7EE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A23F7-4B4B-447D-9D3E-016B286E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E49B-0F95-4ED2-B44D-FAC9EE3F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A3443-A88C-4FE2-9B09-A61CD80D4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8EC79-92C0-415B-B100-C956D3F1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526F2-3836-450B-9F75-7D81F5C6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308F0-29EC-4D8D-A79B-4F5E1047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B22AE-86A4-4799-A127-647C8D85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7339-4104-4D8B-8973-E9BC453C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6F55B-4425-4522-A9C1-D12805BA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EC664-ACAD-4187-AEE5-D25AE7BE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5567-B07F-49E3-91C8-D31421000C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E3AF-BA67-4941-9DE6-D1B3F89D98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08240" y="620640"/>
            <a:ext cx="604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ff"/>
                </a:solidFill>
                <a:latin typeface="Comic Sans MS"/>
              </a:rPr>
              <a:t>Fabrication</a:t>
            </a:r>
            <a:r>
              <a:rPr b="0" lang="en-US" sz="4800" spc="-1" strike="noStrike">
                <a:solidFill>
                  <a:srgbClr val="9999ff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9999ff"/>
                </a:solidFill>
                <a:latin typeface="Comic Sans MS"/>
              </a:rPr>
              <a:t>de</a:t>
            </a:r>
            <a:r>
              <a:rPr b="0" lang="en-US" sz="4800" spc="-1" strike="noStrike">
                <a:solidFill>
                  <a:srgbClr val="9999ff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ff"/>
                </a:solidFill>
                <a:latin typeface="Comic Sans MS"/>
              </a:rPr>
              <a:t>composa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218772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999cc"/>
              </a:buClr>
              <a:buFont typeface="Comic Sans MS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Comic Sans MS"/>
              </a:rPr>
              <a:t>La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99cc"/>
                </a:solidFill>
                <a:latin typeface="Comic Sans MS"/>
              </a:rPr>
              <a:t>fabr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9999cc"/>
              </a:buClr>
              <a:buFont typeface="Comic Sans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Le matéri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2) Les procéd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3)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Les différentes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4) L’assembl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II)</a:t>
            </a:r>
            <a:r>
              <a:rPr b="0" lang="en-US" sz="32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Les</a:t>
            </a:r>
            <a:r>
              <a:rPr b="0" lang="en-US" sz="32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cc"/>
                </a:solidFill>
                <a:latin typeface="Comic Sans MS"/>
              </a:rPr>
              <a:t>III)</a:t>
            </a: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99cc"/>
                </a:solidFill>
                <a:latin typeface="Comic Sans MS"/>
              </a:rPr>
              <a:t>L’av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Comic Sans MS"/>
              </a:rPr>
              <a:t>Pourquoi tester ?</a:t>
            </a: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Vérifier le processus de fabrication et corriger les erreurs de conception</a:t>
            </a:r>
            <a:endParaRPr b="0" lang="en-US" sz="2800" spc="-1" strike="noStrike">
              <a:solidFill>
                <a:srgbClr val="00007d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Obtenir le meilleur produit possible</a:t>
            </a:r>
            <a:endParaRPr b="0" lang="en-US" sz="2800" spc="-1" strike="noStrike">
              <a:solidFill>
                <a:srgbClr val="00007d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Garantie pour le client</a:t>
            </a:r>
            <a:endParaRPr b="0" lang="en-US" sz="2800" spc="-1" strike="noStrike">
              <a:solidFill>
                <a:srgbClr val="00007d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10080" y="2255760"/>
            <a:ext cx="2514600" cy="333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Comic Sans MS"/>
              </a:rPr>
              <a:t>La testabilité</a:t>
            </a: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Le test de la fonctionnalité</a:t>
            </a: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étection des erreurs de conception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Vérification de la fonction effectuée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Le test de production</a:t>
            </a: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Vérification des interconnexions et de la structure du circuit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esure des performances et des paramètres du circuit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Comic Sans MS"/>
              </a:rPr>
              <a:t>Les tests industriels</a:t>
            </a: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Le test paramétrique</a:t>
            </a: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onction: la plaquette  est-elle valide ?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Réalisé sur la plaquette de silicium avant l’assemblage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esure sur des composants élémentaires de contrôles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ermet de corriger les défauts de fabrication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Comic Sans MS"/>
              </a:rPr>
              <a:t>Les tests industriels</a:t>
            </a: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e test  sous pointes </a:t>
            </a:r>
            <a:endParaRPr b="0" lang="en-US" sz="2800" spc="-1" strike="noStrike">
              <a:solidFill>
                <a:srgbClr val="00007d"/>
              </a:solidFill>
              <a:latin typeface="Comic Sans M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ppelé aussi « tri sous pointes »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Fonction: sélection des circuits à mettre en boîtier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hase 1: test des circuits directement sur la plaquette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hase 2: marquage à l’encre des puces défectueus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643280" y="4437000"/>
            <a:ext cx="4032360" cy="2271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0" y="1981080"/>
            <a:ext cx="41036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Comic Sans MS"/>
              </a:rPr>
              <a:t>Les tests industriels</a:t>
            </a: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Le test de caractérisation</a:t>
            </a: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est sur des échantillons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Réalisé après la mise en boîtier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onction: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Vérification des fonctionnalités du circuit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Déterminer les limites de fonctionnement du circuit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ollecter les paramètr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Classer les circuit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Comic Sans MS"/>
              </a:rPr>
              <a:t>Les tests industriels</a:t>
            </a: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Comic Sans MS"/>
              </a:rPr>
              <a:t>Le test final des boîtiers</a:t>
            </a: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Appelé aussi « test gonogo »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Déroulement en 5 étapes: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Test des connexions entre puce et boîtier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Mesure du courant de consommation du circuit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Test fonctionnel aux conditions optimal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Test fonctionnel aux conditions limit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Arial"/>
              </a:rPr>
              <a:t>Tests paramétriqu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Arial"/>
              </a:rPr>
              <a:t>Classement des défauts et destruction des boîtiers défectueux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Comic Sans MS"/>
              </a:rPr>
              <a:t>Les problèmes</a:t>
            </a: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Tester revient cher</a:t>
            </a: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Une machine de test coûte de 1 à 5 millions de dollar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urée d’un test de quelques millisecondes à 20 second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Les tests représentent 20 à 30% du coût global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Comic Sans MS"/>
              </a:rPr>
              <a:t>Les problèmes</a:t>
            </a:r>
            <a:endParaRPr b="0" lang="en-US" sz="4400" spc="-1" strike="noStrike">
              <a:solidFill>
                <a:srgbClr val="00007d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Difficulté d’accès aux composants internes</a:t>
            </a: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rop grand nombre de transistor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La vitesse de fonctionnement interne du circuit est supérieur à son fonctionnement extérieur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Comic Sans MS"/>
              </a:rPr>
              <a:t>Les autotests:</a:t>
            </a:r>
            <a:endParaRPr b="0" lang="en-US" sz="3200" spc="-1" strike="noStrike">
              <a:solidFill>
                <a:srgbClr val="00007d"/>
              </a:solidFill>
              <a:latin typeface="Comic Sans MS"/>
            </a:endParaRPr>
          </a:p>
          <a:p>
            <a:pPr lvl="1" marL="705600" indent="-2714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laboration avec le concepteur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inimisation le temps de test externe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5T15:39:26Z</dcterms:created>
  <dc:creator>fifi.</dc:creator>
  <dc:description/>
  <dc:language>en-US</dc:language>
  <cp:lastModifiedBy>fifi.</cp:lastModifiedBy>
  <dcterms:modified xsi:type="dcterms:W3CDTF">2001-11-25T23:47:22Z</dcterms:modified>
  <cp:revision>15</cp:revision>
  <dc:subject/>
  <dc:title>Pourquoi tester ?</dc:title>
</cp:coreProperties>
</file>